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D88-914C-4E48-B487-2F8B1055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F4A-EFF5-44A4-B1D9-F5F03DCB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CB5-0E8B-4AD5-8A77-38DFC601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541-0968-4565-8CC1-A6C79218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BBE-BA64-40E0-9FEE-E03F012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2482-F0DB-4739-B762-F22AABCE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E9F-3B96-409F-8B44-D96078EF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29C-B0D3-4FDB-A3A0-D6461B61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AC9-1394-419D-92C4-0FC0897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BE3-43F7-41DC-B245-092FDEC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A05-BB9C-4A34-BE58-D49979F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228-D469-4D07-B9EC-938BD4FC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3FE-9E1B-4EFA-A41C-9B3D378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F11-8159-4415-8551-F9BEE946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094-A96E-4F74-9BEC-55A31DE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DEC-53B6-44C5-BB0A-15C2ACC3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5C4-042F-4F34-BF17-5D750B95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572-8EF7-4C96-B6D0-65211083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2F4-223E-47CA-8666-C065FFD2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0C9-216C-4DB7-9291-CA957F97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138-C61B-421C-9274-EAFF29B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890-8A70-42FA-BB5E-15BBE4A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278-C07C-405F-922C-8460A2D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82E-DFAC-41E0-9682-23D3258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0C2-5211-41C8-9FA7-7052C0E416B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021E-79AD-41CC-AE6D-BC5B629452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lenta.ru/lib/14164246/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finmarket.ru/z/nws/news.asp?id=685833&amp;hot=688907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my-hit.ru/star/6658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peoples.ru/art/fashion/cutur/lagerfeld/index1.html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www.schumi.net.ru/" TargetMode="External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281160"/>
            <a:ext cx="8302680" cy="275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216858"/>
          <p:cNvPicPr/>
          <p:nvPr/>
        </p:nvPicPr>
        <p:blipFill>
          <a:blip r:embed="rId2"/>
          <a:stretch/>
        </p:blipFill>
        <p:spPr>
          <a:xfrm>
            <a:off x="1619280" y="3357720"/>
            <a:ext cx="6048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9509040" cy="3584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http://upload.wikimedia.org/wikipedia/commons/thumb/3/3d/Bundesarchiv_Bild_183-1988-0105-018%2C_Katarina_Witt.jpg/200px-Bundesarchiv_Bild_183-1988-0105-018%2C_Katarina_Witt.jpg"/>
          <p:cNvPicPr/>
          <p:nvPr/>
        </p:nvPicPr>
        <p:blipFill>
          <a:blip r:embed="rId2"/>
          <a:srcRect l="3740" t="2681" r="6299" b="3246"/>
          <a:stretch/>
        </p:blipFill>
        <p:spPr>
          <a:xfrm>
            <a:off x="4929120" y="3929040"/>
            <a:ext cx="1714680" cy="249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1\Documents\Германия в картинках\Люди Германии\7081Claudia.jpg"/>
          <p:cNvPicPr/>
          <p:nvPr/>
        </p:nvPicPr>
        <p:blipFill>
          <a:blip r:embed="rId3"/>
          <a:stretch/>
        </p:blipFill>
        <p:spPr>
          <a:xfrm>
            <a:off x="2286000" y="30718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1\Documents\Германия в картинках\Люди Германии\6ca1e28e8644071f4c9c8542dddb5fc9.jpg"/>
          <p:cNvPicPr/>
          <p:nvPr/>
        </p:nvPicPr>
        <p:blipFill>
          <a:blip r:embed="rId4"/>
          <a:stretch/>
        </p:blipFill>
        <p:spPr>
          <a:xfrm>
            <a:off x="571680" y="457200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1\Documents\Германия в картинках\Люди Германии\123.jpeg"/>
          <p:cNvPicPr/>
          <p:nvPr/>
        </p:nvPicPr>
        <p:blipFill>
          <a:blip r:embed="rId5"/>
          <a:stretch/>
        </p:blipFill>
        <p:spPr>
          <a:xfrm>
            <a:off x="7219800" y="3139920"/>
            <a:ext cx="128124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4200" y="928800"/>
            <a:ext cx="85726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20c9f8"/>
                </a:solidFill>
                <a:latin typeface="Adobe Garamond Pro Bold"/>
              </a:rPr>
              <a:t>Wollen Sie Links benutzen, um neue Information zu bekommen und folgende Aufgaben schnell zu machen?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1\Documents\Германия в картинках\Люди Германии\picture--24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714680"/>
            <a:ext cx="2193840" cy="164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1\Documents\Германия в картинках\Люди Германии\1234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0280" y="2357280"/>
            <a:ext cx="214344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Users\1\Documents\Германия в картинках\Люди Германии\2it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6720" y="1643040"/>
            <a:ext cx="195264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:\Users\1\Documents\Германия в картинках\Люди Германии\lagerfeld_200711172117063jpg.jpe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86240" y="4500720"/>
            <a:ext cx="1500480" cy="208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1\Documents\Германия в картинках\Люди Германии\michael-schumacher.p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19200" y="4022640"/>
            <a:ext cx="1852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071960" y="2500200"/>
            <a:ext cx="1905120" cy="249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1\Documents\Германия в картинках\Люди Германии\аамн.jpeg"/>
          <p:cNvPicPr/>
          <p:nvPr/>
        </p:nvPicPr>
        <p:blipFill>
          <a:blip r:embed="rId3"/>
          <a:stretch/>
        </p:blipFill>
        <p:spPr>
          <a:xfrm>
            <a:off x="6786720" y="2071800"/>
            <a:ext cx="192852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1\Documents\Германия в картинках\Люди Германии\i.jpeg"/>
          <p:cNvPicPr/>
          <p:nvPr/>
        </p:nvPicPr>
        <p:blipFill>
          <a:blip r:embed="rId4"/>
          <a:stretch/>
        </p:blipFill>
        <p:spPr>
          <a:xfrm>
            <a:off x="1500120" y="3929040"/>
            <a:ext cx="1540080" cy="22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1\Documents\Германия в картинках\Люди Германии\anders_1_s.jpg"/>
          <p:cNvPicPr/>
          <p:nvPr/>
        </p:nvPicPr>
        <p:blipFill>
          <a:blip r:embed="rId5"/>
          <a:stretch/>
        </p:blipFill>
        <p:spPr>
          <a:xfrm>
            <a:off x="6643800" y="4714920"/>
            <a:ext cx="1238040" cy="1238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1500120" y="357120"/>
            <a:ext cx="67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c9f8"/>
                </a:solidFill>
                <a:latin typeface="Book Antiqua"/>
              </a:rPr>
              <a:t>- Wer sind diese Menschen?</a:t>
            </a:r>
            <a:br>
              <a:rPr sz="4000"/>
            </a:br>
            <a:r>
              <a:rPr b="0" lang="en-US" sz="4000" spc="-1" strike="noStrike">
                <a:solidFill>
                  <a:srgbClr val="20c9f8"/>
                </a:solidFill>
                <a:latin typeface="Book Antiqua"/>
              </a:rPr>
              <a:t>- Was sind sie von Beruf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80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bebe14"/>
          <p:cNvPicPr/>
          <p:nvPr/>
        </p:nvPicPr>
        <p:blipFill>
          <a:blip r:embed="rId2"/>
          <a:stretch/>
        </p:blipFill>
        <p:spPr>
          <a:xfrm>
            <a:off x="3714840" y="3500280"/>
            <a:ext cx="2011320" cy="18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168"/>
          <p:cNvPicPr/>
          <p:nvPr/>
        </p:nvPicPr>
        <p:blipFill>
          <a:blip r:embed="rId3"/>
          <a:stretch/>
        </p:blipFill>
        <p:spPr>
          <a:xfrm>
            <a:off x="3429000" y="4572000"/>
            <a:ext cx="6429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3:19:47Z</dcterms:created>
  <dc:creator>Парфенова</dc:creator>
  <dc:description/>
  <dc:language>en-US</dc:language>
  <cp:lastModifiedBy>1</cp:lastModifiedBy>
  <dcterms:modified xsi:type="dcterms:W3CDTF">2010-01-27T05:14:48Z</dcterms:modified>
  <cp:revision>44</cp:revision>
  <dc:subject/>
  <dc:title>Слайд 1</dc:title>
</cp:coreProperties>
</file>